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360C-8F7E-48E4-9C14-DCB659B3E30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56A-D53E-4CCD-A20E-147F403520E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4AF-7716-49C7-A3F0-31CC943B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65A-09A6-4CEC-9864-735DC9D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0CF-0A2D-44BC-B6F6-1FFBDC09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44E-3C71-4488-B406-9B9D6599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D75-9792-48BF-B7D2-857FC32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523-62BE-4C51-93AA-65BA047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829-A72F-43D5-9D7F-15C6325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031-C1B6-4489-87C6-F9CF5137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F83-B6EF-4FCA-A38D-F4E3B9F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B3F-DF2A-4D26-967C-8450C100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21D-043B-4278-8A52-AEFC665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CEE-456A-4693-8F52-382C9C86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DB2E-F43F-4823-B61C-26948632B5E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PAK JUN HAK\바탕 화면\0.5 440\0.5_440_000.jpg"/>
          <p:cNvPicPr/>
          <p:nvPr/>
        </p:nvPicPr>
        <p:blipFill>
          <a:blip r:embed="rId1"/>
          <a:stretch/>
        </p:blipFill>
        <p:spPr>
          <a:xfrm>
            <a:off x="-1857240" y="-157176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Documents and Settings\PAK JUN HAK\바탕 화면\0.5 440\0.5_440_001.jpg"/>
          <p:cNvPicPr/>
          <p:nvPr/>
        </p:nvPicPr>
        <p:blipFill>
          <a:blip r:embed="rId2"/>
          <a:stretch/>
        </p:blipFill>
        <p:spPr>
          <a:xfrm>
            <a:off x="428760" y="-1714680"/>
            <a:ext cx="4876560" cy="365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PAK JUN HAK\바탕 화면\0.5 440\0.5_440_002.jpg"/>
          <p:cNvPicPr/>
          <p:nvPr/>
        </p:nvPicPr>
        <p:blipFill>
          <a:blip r:embed="rId3"/>
          <a:stretch/>
        </p:blipFill>
        <p:spPr>
          <a:xfrm>
            <a:off x="2714760" y="-185724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PAK JUN HAK\바탕 화면\0.5 440\0.5_440_003.jpg"/>
          <p:cNvPicPr/>
          <p:nvPr/>
        </p:nvPicPr>
        <p:blipFill>
          <a:blip r:embed="rId4"/>
          <a:stretch/>
        </p:blipFill>
        <p:spPr>
          <a:xfrm>
            <a:off x="5072040" y="-21430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Documents and Settings\PAK JUN HAK\바탕 화면\0.5 440\0.5_440a_000.jpg"/>
          <p:cNvPicPr/>
          <p:nvPr/>
        </p:nvPicPr>
        <p:blipFill>
          <a:blip r:embed="rId5"/>
          <a:stretch/>
        </p:blipFill>
        <p:spPr>
          <a:xfrm>
            <a:off x="-2071800" y="38577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Documents and Settings\PAK JUN HAK\바탕 화면\0.5 440\0.5_440a_001.jpg"/>
          <p:cNvPicPr/>
          <p:nvPr/>
        </p:nvPicPr>
        <p:blipFill>
          <a:blip r:embed="rId6"/>
          <a:stretch/>
        </p:blipFill>
        <p:spPr>
          <a:xfrm>
            <a:off x="285840" y="364320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C:\Documents and Settings\PAK JUN HAK\바탕 화면\0.5 440\0.5_440a_002.jpg"/>
          <p:cNvPicPr/>
          <p:nvPr/>
        </p:nvPicPr>
        <p:blipFill>
          <a:blip r:embed="rId7"/>
          <a:stretch/>
        </p:blipFill>
        <p:spPr>
          <a:xfrm>
            <a:off x="2714760" y="40006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:\Documents and Settings\PAK JUN HAK\바탕 화면\0.5 440\0.5_440a_003.jpg"/>
          <p:cNvPicPr/>
          <p:nvPr/>
        </p:nvPicPr>
        <p:blipFill>
          <a:blip r:embed="rId8"/>
          <a:stretch/>
        </p:blipFill>
        <p:spPr>
          <a:xfrm>
            <a:off x="2714760" y="40006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C:\Documents and Settings\PAK JUN HAK\바탕 화면\0.5 440\0.5_440a_004.jpg"/>
          <p:cNvPicPr/>
          <p:nvPr/>
        </p:nvPicPr>
        <p:blipFill>
          <a:blip r:embed="rId9"/>
          <a:stretch/>
        </p:blipFill>
        <p:spPr>
          <a:xfrm>
            <a:off x="6705720" y="42148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2:46:06Z</dcterms:created>
  <dc:creator>박준학</dc:creator>
  <dc:description/>
  <dc:language>en-US</dc:language>
  <cp:lastModifiedBy>박준학</cp:lastModifiedBy>
  <dcterms:modified xsi:type="dcterms:W3CDTF">2008-05-13T23:09:23Z</dcterms:modified>
  <cp:revision>3</cp:revision>
  <dc:subject/>
  <dc:title>슬라이드 1</dc:title>
</cp:coreProperties>
</file>