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877-84BE-46DB-A6E9-F853B17A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1530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50720" y="4130640"/>
            <a:ext cx="1530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97D-A686-445C-BCF2-48D2957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915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50720" y="413064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91520" y="413064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9C-6A49-475A-B2BE-7EDD85CE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4280" y="198108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698200" y="198108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50720" y="413064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24280" y="413064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698200" y="4130640"/>
            <a:ext cx="4926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B16-2ECA-4231-9DE9-D9EBD483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50720" y="1981080"/>
            <a:ext cx="15301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2BA-52B3-458E-AA71-FA36976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1530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966-ED85-4C14-BCB1-4CB7A09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74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191520" y="1981080"/>
            <a:ext cx="74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D26-A31F-4D3D-8692-83A172BD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227-D300-4E62-A5D6-E79A72A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50720" y="609120"/>
            <a:ext cx="15301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F7E-5109-4CFA-A35F-64A333B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191520" y="1981080"/>
            <a:ext cx="74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50720" y="413064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BFC-614C-4BCF-8C64-D856D7B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74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1915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91520" y="413064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E00-678B-4D08-AF3B-0FACD1D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507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191520" y="1981080"/>
            <a:ext cx="74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50720" y="4130640"/>
            <a:ext cx="15301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CF4-A8AC-40EE-814B-97D9C20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153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720" y="1981080"/>
            <a:ext cx="1530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50720" y="6248520"/>
            <a:ext cx="374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51320" y="6248520"/>
            <a:ext cx="57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903120" y="6248520"/>
            <a:ext cx="374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2C6F-F533-4848-A28F-D18BD49B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1905120"/>
            <a:ext cx="137160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487400" y="2590920"/>
            <a:ext cx="137160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2590920"/>
            <a:ext cx="7772400" cy="1371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2743200"/>
            <a:ext cx="76201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72800" y="281952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25080" y="2971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125440" y="2971800"/>
            <a:ext cx="609120" cy="609480"/>
            <a:chOff x="11125440" y="2971800"/>
            <a:chExt cx="609120" cy="609480"/>
          </a:xfrm>
        </p:grpSpPr>
        <p:sp>
          <p:nvSpPr>
            <p:cNvPr id="49" name=""/>
            <p:cNvSpPr/>
            <p:nvPr/>
          </p:nvSpPr>
          <p:spPr>
            <a:xfrm>
              <a:off x="11125440" y="2971800"/>
              <a:ext cx="6091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1125440" y="2971440"/>
              <a:ext cx="6091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0973520" y="2819520"/>
            <a:ext cx="912960" cy="914040"/>
            <a:chOff x="10973520" y="2819520"/>
            <a:chExt cx="912960" cy="914040"/>
          </a:xfrm>
        </p:grpSpPr>
        <p:sp>
          <p:nvSpPr>
            <p:cNvPr id="52" name=""/>
            <p:cNvSpPr/>
            <p:nvPr/>
          </p:nvSpPr>
          <p:spPr>
            <a:xfrm>
              <a:off x="10973520" y="2819520"/>
              <a:ext cx="912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0973520" y="2819160"/>
              <a:ext cx="91296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3639680" y="2743200"/>
            <a:ext cx="1067040" cy="10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640400" y="2743200"/>
            <a:ext cx="1065600" cy="1066680"/>
            <a:chOff x="13640400" y="2743200"/>
            <a:chExt cx="1065600" cy="1066680"/>
          </a:xfrm>
        </p:grpSpPr>
        <p:sp>
          <p:nvSpPr>
            <p:cNvPr id="56" name=""/>
            <p:cNvSpPr/>
            <p:nvPr/>
          </p:nvSpPr>
          <p:spPr>
            <a:xfrm>
              <a:off x="13640400" y="2743200"/>
              <a:ext cx="106560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3640400" y="2743200"/>
              <a:ext cx="106560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3488480" y="2590920"/>
            <a:ext cx="1369440" cy="1371240"/>
            <a:chOff x="13488480" y="2590920"/>
            <a:chExt cx="1369440" cy="1371240"/>
          </a:xfrm>
        </p:grpSpPr>
        <p:sp>
          <p:nvSpPr>
            <p:cNvPr id="59" name=""/>
            <p:cNvSpPr/>
            <p:nvPr/>
          </p:nvSpPr>
          <p:spPr>
            <a:xfrm>
              <a:off x="13488480" y="2590920"/>
              <a:ext cx="13694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3488480" y="2590920"/>
              <a:ext cx="1369440" cy="13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553080" y="2819520"/>
            <a:ext cx="487692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552720" y="2819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2971800"/>
            <a:ext cx="4876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552720" y="2971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52720" y="27432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400800" y="2590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552720" y="35812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52720" y="3733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552720" y="3809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00800" y="3962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963520" y="2819520"/>
            <a:ext cx="2286000" cy="761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791800" y="3479760"/>
            <a:ext cx="2667240" cy="271440"/>
          </a:xfrm>
          <a:custGeom>
            <a:avLst/>
            <a:gdLst/>
            <a:ahLst/>
            <a:rect l="l" t="t" r="r" b="b"/>
            <a:pathLst>
              <a:path w="1680" h="171">
                <a:moveTo>
                  <a:pt x="0" y="156"/>
                </a:moveTo>
                <a:cubicBezTo>
                  <a:pt x="5" y="138"/>
                  <a:pt x="27" y="131"/>
                  <a:pt x="44" y="124"/>
                </a:cubicBezTo>
                <a:cubicBezTo>
                  <a:pt x="85" y="122"/>
                  <a:pt x="181" y="147"/>
                  <a:pt x="248" y="144"/>
                </a:cubicBezTo>
                <a:cubicBezTo>
                  <a:pt x="315" y="141"/>
                  <a:pt x="369" y="112"/>
                  <a:pt x="448" y="108"/>
                </a:cubicBezTo>
                <a:cubicBezTo>
                  <a:pt x="527" y="104"/>
                  <a:pt x="667" y="110"/>
                  <a:pt x="724" y="120"/>
                </a:cubicBezTo>
                <a:cubicBezTo>
                  <a:pt x="781" y="130"/>
                  <a:pt x="829" y="153"/>
                  <a:pt x="892" y="160"/>
                </a:cubicBezTo>
                <a:cubicBezTo>
                  <a:pt x="955" y="167"/>
                  <a:pt x="1041" y="171"/>
                  <a:pt x="1100" y="164"/>
                </a:cubicBezTo>
                <a:cubicBezTo>
                  <a:pt x="1159" y="157"/>
                  <a:pt x="1134" y="120"/>
                  <a:pt x="1244" y="116"/>
                </a:cubicBezTo>
                <a:cubicBezTo>
                  <a:pt x="1354" y="112"/>
                  <a:pt x="1510" y="121"/>
                  <a:pt x="1576" y="112"/>
                </a:cubicBezTo>
                <a:cubicBezTo>
                  <a:pt x="1642" y="103"/>
                  <a:pt x="1623" y="79"/>
                  <a:pt x="1640" y="60"/>
                </a:cubicBezTo>
                <a:cubicBezTo>
                  <a:pt x="1648" y="34"/>
                  <a:pt x="1655" y="12"/>
                  <a:pt x="168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2743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733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2590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362320"/>
            <a:ext cx="289548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962520"/>
            <a:ext cx="2895480" cy="228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8000" y="9619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s mount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875800" y="96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565520" y="502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473720" y="961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9000" y="50292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ic glass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72880" y="50292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led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9" idx="2"/>
            <a:endCxn id="77" idx="0"/>
          </p:cNvCxnSpPr>
          <p:nvPr/>
        </p:nvCxnSpPr>
        <p:spPr>
          <a:xfrm>
            <a:off x="5358960" y="1421640"/>
            <a:ext cx="660960" cy="94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6" name=""/>
          <p:cNvCxnSpPr>
            <a:stCxn id="80" idx="2"/>
            <a:endCxn id="42" idx="7"/>
          </p:cNvCxnSpPr>
          <p:nvPr/>
        </p:nvCxnSpPr>
        <p:spPr>
          <a:xfrm flipH="1">
            <a:off x="7876440" y="1421640"/>
            <a:ext cx="1589760" cy="6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7" name=""/>
          <p:cNvCxnSpPr>
            <a:stCxn id="82" idx="2"/>
            <a:endCxn id="71" idx="0"/>
          </p:cNvCxnSpPr>
          <p:nvPr/>
        </p:nvCxnSpPr>
        <p:spPr>
          <a:xfrm flipH="1">
            <a:off x="13106520" y="1421640"/>
            <a:ext cx="948600" cy="139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8" name=""/>
          <p:cNvCxnSpPr>
            <a:stCxn id="81" idx="0"/>
            <a:endCxn id="72" idx="0"/>
          </p:cNvCxnSpPr>
          <p:nvPr/>
        </p:nvCxnSpPr>
        <p:spPr>
          <a:xfrm flipH="1" flipV="1">
            <a:off x="13208040" y="3733920"/>
            <a:ext cx="913680" cy="12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89" name=""/>
          <p:cNvCxnSpPr>
            <a:stCxn id="83" idx="0"/>
            <a:endCxn id="44" idx="2"/>
          </p:cNvCxnSpPr>
          <p:nvPr/>
        </p:nvCxnSpPr>
        <p:spPr>
          <a:xfrm flipV="1">
            <a:off x="9829800" y="3962520"/>
            <a:ext cx="457560" cy="10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0" name=""/>
          <p:cNvCxnSpPr>
            <a:stCxn id="84" idx="0"/>
            <a:endCxn id="44" idx="1"/>
          </p:cNvCxnSpPr>
          <p:nvPr/>
        </p:nvCxnSpPr>
        <p:spPr>
          <a:xfrm flipV="1">
            <a:off x="4707720" y="3276720"/>
            <a:ext cx="1693440" cy="175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1" name=""/>
          <p:cNvCxnSpPr>
            <a:stCxn id="83" idx="0"/>
            <a:endCxn id="61" idx="2"/>
          </p:cNvCxnSpPr>
          <p:nvPr/>
        </p:nvCxnSpPr>
        <p:spPr>
          <a:xfrm flipH="1" flipV="1">
            <a:off x="8991360" y="3733920"/>
            <a:ext cx="838800" cy="12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5:31:28Z</dcterms:created>
  <dc:creator>Howard Stone</dc:creator>
  <dc:description/>
  <dc:language>en-US</dc:language>
  <cp:lastModifiedBy>Howard Stone</cp:lastModifiedBy>
  <dcterms:modified xsi:type="dcterms:W3CDTF">2006-01-13T16:30:32Z</dcterms:modified>
  <cp:revision>1</cp:revision>
  <dc:subject/>
  <dc:title>PowerPoint Presentation</dc:title>
</cp:coreProperties>
</file>