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64CB-DEC5-4228-B5F5-DF64BAB5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14B1-2D8F-468A-A434-CD874707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3E5E-E257-4B9E-A072-5464F7C4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F429-47CB-4E35-9A56-FD0BBB2B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993-3817-4FEF-846B-3937D4C6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665-FFA3-42CF-ADEB-1A87D7BB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F93B-5A88-4634-93B9-455FE237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2B0-09A3-4A02-9565-F426A362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2C9-CFBA-4541-9172-D2ADD044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6535-8CB7-48BD-91DC-A2625367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B69-6CDF-48B6-B088-3B06149A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8E1C-FB4F-4D64-9663-ECDA2ED9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738D-B830-4BA1-BCB8-3ADB7EC15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384200" y="1557000"/>
            <a:ext cx="6386760" cy="4332960"/>
            <a:chOff x="1384200" y="1557000"/>
            <a:chExt cx="6386760" cy="4332960"/>
          </a:xfrm>
        </p:grpSpPr>
        <p:sp>
          <p:nvSpPr>
            <p:cNvPr id="42" name=""/>
            <p:cNvSpPr/>
            <p:nvPr/>
          </p:nvSpPr>
          <p:spPr>
            <a:xfrm>
              <a:off x="1763640" y="5373720"/>
              <a:ext cx="590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1763640" y="1557000"/>
              <a:ext cx="0" cy="381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1979640" y="2491920"/>
              <a:ext cx="4967280" cy="2808360"/>
              <a:chOff x="1979640" y="2491920"/>
              <a:chExt cx="4967280" cy="2808360"/>
            </a:xfrm>
          </p:grpSpPr>
          <p:sp>
            <p:nvSpPr>
              <p:cNvPr id="45" name=""/>
              <p:cNvSpPr/>
              <p:nvPr/>
            </p:nvSpPr>
            <p:spPr>
              <a:xfrm flipV="1">
                <a:off x="1979640" y="2491920"/>
                <a:ext cx="647640" cy="28083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627280" y="2492280"/>
                <a:ext cx="107964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706920" y="2492280"/>
                <a:ext cx="144360" cy="13683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851280" y="3860640"/>
                <a:ext cx="251928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370560" y="3860640"/>
                <a:ext cx="576360" cy="136872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2342520" y="3645000"/>
              <a:ext cx="98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5°C/s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82520" y="2852640"/>
              <a:ext cx="11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45°C/s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62160" y="4292640"/>
              <a:ext cx="11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0°C/s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59240" y="34941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400°C, 1 h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19200" y="2125800"/>
              <a:ext cx="150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880°C, 5 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05080" y="549108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84200" y="19162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20:34:50Z</dcterms:created>
  <dc:creator>SIDERCA S.A.I.C.</dc:creator>
  <dc:description/>
  <dc:language>en-US</dc:language>
  <cp:lastModifiedBy>SIDERCA S.A.I.C.</cp:lastModifiedBy>
  <dcterms:modified xsi:type="dcterms:W3CDTF">2006-02-24T20:51:22Z</dcterms:modified>
  <cp:revision>2</cp:revision>
  <dc:subject/>
  <dc:title>Slide 1</dc:title>
</cp:coreProperties>
</file>