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B1BC-4AF1-4A67-B009-C08FC072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B0C8-E075-4580-A5FF-F86942B8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31D8-D8A2-4240-AEC2-6921DA8A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E1D-0945-444A-8C23-834AF9E0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0D5E-97F9-4EEA-AA00-F86ED2D7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3DE-400B-44CF-BDEA-3AC26374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682-5598-41C1-87B6-88D1DBC7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636-8E9A-4F0C-B9BB-DC6FC21A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BE5-A7AF-457E-B0EE-7177D068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509-4E39-4F32-AED1-AD7D076B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79C9-936A-4B55-9DC8-4C38A197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2F5-6FDD-4F5B-BC40-0454CBC5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FA76-89C3-49C5-85D0-7119B065C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292720" y="189000"/>
            <a:ext cx="3249720" cy="3249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835280" y="3500280"/>
            <a:ext cx="3249360" cy="3249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292720" y="3500280"/>
            <a:ext cx="3249720" cy="3249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1080" y="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HAA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224240" cy="4224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422460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716360" y="1268280"/>
            <a:ext cx="4224600" cy="4224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422424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3249720" cy="324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88000" y="115920"/>
            <a:ext cx="3249360" cy="324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788000" y="3429000"/>
            <a:ext cx="3249360" cy="3249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57280" y="3524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B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235400" cy="4235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907920"/>
            <a:ext cx="4235400" cy="42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4224240" cy="4224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16360" y="981000"/>
            <a:ext cx="422460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224240" cy="422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0" y="1125360"/>
            <a:ext cx="422424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224240" cy="4224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42246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4224240" cy="422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3280" y="1052640"/>
            <a:ext cx="422460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224240" cy="4224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3280" y="1197000"/>
            <a:ext cx="422460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224240" cy="4224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3280" y="1052640"/>
            <a:ext cx="422460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5:59:40Z</dcterms:created>
  <dc:creator>user</dc:creator>
  <dc:description/>
  <dc:language>en-US</dc:language>
  <cp:lastModifiedBy>user</cp:lastModifiedBy>
  <dcterms:modified xsi:type="dcterms:W3CDTF">2008-05-21T11:59:39Z</dcterms:modified>
  <cp:revision>2</cp:revision>
  <dc:subject/>
  <dc:title>Slide 1</dc:title>
</cp:coreProperties>
</file>