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E53-5241-40BF-B283-A47C02C5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F64-BD0F-4C1D-AEDB-33AD7790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4FE-DA9D-45B6-BB96-8C1B5400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7A8-D289-4CD8-990B-A3EC0AF9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5EC51-0BD3-4066-9B41-42369AA7C7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64561-68AF-4811-8E51-973113BE8B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D6B39-5843-49F0-8A4C-119C92F639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D98C1-A121-484F-827D-86D3E0C34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099BA-F2AE-4332-9EA3-1DA1E74504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2DB46-58BF-4F9D-8D78-57DF427498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342E-5398-4FAC-8377-524FE7B6E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7B1-3562-4CA0-A9FB-15F30841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C1DF2-1EDF-44DF-886C-2511200ACB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2733-30BA-4068-A040-00FC759BB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A367E-B879-4612-B547-666649C02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7AAFA-F0C9-467E-A09B-810841E641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93526-9E67-446E-A440-F561CCAC9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324-8BB3-4E41-BDB1-B4BF5D0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C8E-8FAE-41A7-B8B1-537F68C2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E57-BAF2-4271-8D68-182281B1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B88-3CA4-4164-9C69-430A748C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562-982F-4803-B268-BE2BC53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4DA-67F2-4531-BD1D-B086341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FBD-646D-4241-B0B3-F1CED2E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F67-7A05-4EEA-AB26-E910690C363D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11D6-C187-4C74-8B36-2C5A1EC89DE6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"/>
          <p:cNvPicPr/>
          <p:nvPr/>
        </p:nvPicPr>
        <p:blipFill>
          <a:blip r:embed="rId2"/>
          <a:stretch/>
        </p:blipFill>
        <p:spPr>
          <a:xfrm>
            <a:off x="96840" y="98280"/>
            <a:ext cx="847800" cy="4986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8"/>
          <p:cNvSpPr/>
          <p:nvPr/>
        </p:nvSpPr>
        <p:spPr>
          <a:xfrm>
            <a:off x="119880" y="6456240"/>
            <a:ext cx="69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Comic Sans MS"/>
              </a:rPr>
              <a:t>Adventures in the Physical Metallurgy of Steels, Cambridge, UK, July 23 – 25, 201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1109520" y="590400"/>
            <a:ext cx="7180560" cy="36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A7A5-5F9D-4AE0-BEFF-1452DD9B7AB1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31C-CD8D-4132-A096-2438F06D0D48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98280" y="88920"/>
            <a:ext cx="5907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Peak Temperature and Cooling Rate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94" t="0" r="15308" b="0"/>
          <a:stretch/>
        </p:blipFill>
        <p:spPr>
          <a:xfrm>
            <a:off x="92160" y="766800"/>
            <a:ext cx="3940200" cy="3657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5351" t="0" r="15308" b="0"/>
          <a:stretch/>
        </p:blipFill>
        <p:spPr>
          <a:xfrm>
            <a:off x="4664160" y="792000"/>
            <a:ext cx="3784680" cy="3656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5"/>
          <p:cNvSpPr/>
          <p:nvPr/>
        </p:nvSpPr>
        <p:spPr>
          <a:xfrm>
            <a:off x="1566720" y="4896000"/>
            <a:ext cx="62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FSW of 6.35 mm thick 1018 Steel; Cooling rate is computed at the top surface just outside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9:20:50Z</dcterms:created>
  <dc:creator>Amit Arora</dc:creator>
  <dc:description/>
  <dc:language>en-US</dc:language>
  <cp:lastModifiedBy>Amitava De</cp:lastModifiedBy>
  <dcterms:modified xsi:type="dcterms:W3CDTF">2013-07-05T11:47:03Z</dcterms:modified>
  <cp:revision>384</cp:revision>
  <dc:subject/>
  <dc:title>Slide 1</dc:title>
</cp:coreProperties>
</file>